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7BA-71EE-498E-A73A-4DC0F15E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D37-42FD-4B7D-9ED9-2D815D2E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8BF-207C-4C16-AA3A-880F6DD6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BAD-948E-4E15-81E5-6D1D7E91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3670-098D-40AC-8ED1-E61811B3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78FA-0D3B-4C30-B453-B2F219F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2AAE-0901-42FD-A660-55F89F4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1AA-1FAE-4823-9F64-69C65AA6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6134-1E4E-4FFE-9D8E-1DB728B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80C2-9136-49B4-B8B5-1139813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AEBF-110E-4FDA-93F2-7FAB5C6F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E0A-726C-4105-9CB4-5FBC9C9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16A3-8B0B-4BBA-B115-55196F0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86A-C03C-4725-98FE-A7A968E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78FA-C50E-4813-942A-DB6CA5E7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CF32-3C8F-4C42-B37E-D76241C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456-C211-47B0-A05D-00D48557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B3A-974A-4F41-8538-C8B2E82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4B4-0DE2-4C6E-91CF-0ACDCAF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E95-D81B-4E2C-B64A-932EA16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976-BEF0-45F6-AE10-C7206AF3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394-5504-443C-9FBC-4598EF3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E9A-B48B-4B6E-8A37-16894BE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47D-B935-4058-BF8B-3EE104D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B3F-0AE4-49DE-A99D-FF74265EF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63D-1A85-42D6-936E-29186494D3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Welcome to PE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n active body is a healthy body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944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tion 6- Water break, rest, crazy moves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188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Muscle of the day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06668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amstring/ Bicep Femor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Benefits of Being Activ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Strong muscles and bo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Weight Contr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Enduranc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or strength to continue or last, despite fatigue, stress, or other adverse conditions; stamina: He has amazing physical endur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A better outlook on lif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Physically active kids also are more likely to be academically successf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b2b2b2"/>
                </a:solidFill>
                <a:uFillTx/>
                <a:latin typeface="Arial"/>
              </a:rPr>
              <a:t>Nutrition Fun Fact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ating foods from all of the food groups (grains, fruits, vegetables, proteins, dai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teins, and healthy fats) each day to meet your nutritional needs is importa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533520" y="-228600"/>
            <a:ext cx="10211040" cy="746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artner Passing/Trapp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0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hoot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644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Dribbl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04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Mini-Soccer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448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Fitness Station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56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What you should know and be able to do at the end of this clas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uscle of the week (What it’s called, where it’s at, and an exercise you can do to strengthen that muscle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ibble a soccer ball with the inside and outside of your 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op a kicked ball by trapping it with your foo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operate and work together in a productive manner within your group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74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nefits of being act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PE Standard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16,1.17,1.20,2.11,2.13,4.9,4.3,5.2,5.5,5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11,1.15,2.4,2.11,3.1,4.1,4.4,4.10,5.2,5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11,1.14,2.5,3.7,4.9,5.3,5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9,1.10,1.15,1.18,2.1,2.2,2.7,4.5,5.4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.9,1.14,1.15,2.1,3.2,4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48765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til the end.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Today’s Soccer Sta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1.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2. Sho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3.Dribb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4. Mini-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5. Fitness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6. Water break, rest, crazy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1- Passing/Trapp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40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2- Shoot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584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3- Dribbling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20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Station 4-Mini-Soccer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012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tation 5-Fitness Sta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20 knee be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20 scissor ki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20 jumping ja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Run 1 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Start 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57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0:06:32Z</dcterms:created>
  <dc:creator>overholtca</dc:creator>
  <dc:description/>
  <dc:language>en-US</dc:language>
  <cp:lastModifiedBy>overholtca</cp:lastModifiedBy>
  <dcterms:modified xsi:type="dcterms:W3CDTF">2010-12-07T17:06:13Z</dcterms:modified>
  <cp:revision>10</cp:revision>
  <dc:subject/>
  <dc:title>Welcome to PE</dc:title>
</cp:coreProperties>
</file>